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04C8A-FB8D-419B-B760-89365E30D5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47896-8570-47B9-AD43-44B325066E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3B514-0412-4CB6-84FA-D5B8971882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85115-EE9A-408E-89D4-983D3895AD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699F3-9DD0-4A71-9757-7D79692D16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63E6B-3E16-4197-BF61-4AD1599F767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24337-B13E-48E2-903D-89D34DAEB2A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03639-429D-4416-A3AC-7A00508BE63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565DA-3974-4053-AA23-4EB1FCD0F6F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0B370-AC79-43D7-9A4E-D0E56A7B30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A27F8-503B-40AC-BA6A-DD5735696C7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5CC1F-64C9-4DBD-8E7F-49AA7DAB34B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F7DF7-BFF7-42FD-81BC-B5AB25FAA8F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7E976-E82C-4EA0-A5E4-C93092FB93B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ABCFD-8380-4B92-843E-0CE84D2957B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F9D6D-EB84-435A-8BD5-AE5989ACC34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EEA7B-C13E-4287-8910-5F41556189F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B04BA-BCA1-41F7-B742-54D5354FE6A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6E4A9-654B-4CD3-9793-2A55FA67F8F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60EC1-26B8-440E-BEA4-BA1E791E73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25E90-B350-42F3-92FE-0631A963D4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19B51-66CC-4BC3-9463-73741A142E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DF390-CE54-484B-8ACA-F3C62E9860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70700-6233-4DE6-AAC5-07D098EB85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500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1500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725400" indent="-152280">
              <a:spcBef>
                <a:spcPts val="1500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136520" indent="-409320">
              <a:spcBef>
                <a:spcPts val="1500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136520" indent="-409320">
              <a:spcBef>
                <a:spcPts val="1500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136520" indent="-409320">
              <a:spcBef>
                <a:spcPts val="1500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547040" y="6114960"/>
            <a:ext cx="1116000" cy="557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455400" y="6357600"/>
            <a:ext cx="41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434EE-20EB-4769-BAA6-F6E51FD19E02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90720" y="634032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8 Intel Corporation. All rights reserved. Intel, the Intel logo, Intel Education Initiative, and the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78560" y="284040"/>
            <a:ext cx="2179800" cy="1089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182600" y="6548400"/>
            <a:ext cx="6894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8 Intel Corporation. All rights reserved. Intel, the Intel logo, Intel Education Initiative, and the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455400" y="6357600"/>
            <a:ext cx="41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BF808-EADF-4AF6-9D25-34AE3C4A6CD3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547040" y="6114960"/>
            <a:ext cx="1116000" cy="5572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990720" y="640080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8 Intel Corporation. All rights reserved. Intel, the Intel logo, Intel Education Initiative, and the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478560" y="309600"/>
            <a:ext cx="2179800" cy="1089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4935240"/>
            <a:ext cx="8766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474840" y="2155680"/>
            <a:ext cx="8254800" cy="25416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84200" y="654840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8 Intel Corporation. All rights reserved. Intel, the Intel logo, Intel Education Initiative, and the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intel.com/education/visualranking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4800600"/>
            <a:ext cx="8763120" cy="6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0" lang="en-US" sz="36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Teach Program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0" y="5460480"/>
            <a:ext cx="876312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c00"/>
                </a:solidFill>
                <a:latin typeface="Verdana"/>
              </a:rPr>
              <a:t>Thinking with Technology Course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cae1"/>
                </a:solidFill>
                <a:latin typeface="Verdana"/>
              </a:rPr>
              <a:t>Module 6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6: Considering the Visual Ranking Tool for Your Unit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2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  <a:ea typeface="Times New Roman"/>
              </a:rPr>
              <a:t>Planning Your Project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600"/>
            </a:b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2: Planning Your Use of Visual Ranking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Module 6.10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pen the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Unit Plan Templat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to the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Visual Ranking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sec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ject Tit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ject Descrip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mp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R, use the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Visual Ranking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ject Idea document available in the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Thinking Tools, Visual Ranking Tool Resources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lder on the Curriculum Resource C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3: Creating a Practice List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Module 6.10–6.11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rainstorm a list of items to rank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618E2-09CD-4E21-BF5A-34895219722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6: Considering the Visual Ranking Tool for Your Unit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3 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etting up a Visual Ranking Projec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lvl="1" marL="3747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747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1: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reating a Visual Ranking Project from an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Existing Project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odule 6.12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374760" indent="-37332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Verdana"/>
              <a:buAutoNum type="arabicPeriod"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pen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Visual Ranking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from your Favorites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3747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intel.com/education/visualrank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374760" indent="-37332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Verdana"/>
              <a:buAutoNum type="arabicPeriod" startAt="2"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pen and copy an appropriate project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374760" indent="-37332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Verdana"/>
              <a:buAutoNum type="arabicPeriod" startAt="2"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ake any changes you would like to the description, prompt, or list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374760" indent="-37332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Verdana"/>
              <a:buAutoNum type="arabicPeriod" startAt="2"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ave the change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374760" indent="-37332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Verdana"/>
              <a:buAutoNum type="arabicPeriod" startAt="2"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py the project details into your Unit Pla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3747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7296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1149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36D50-6DAC-43DE-B172-3BC63C7C7E5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6: Considering the Visual Ranking Tool for Your Unit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3</a:t>
            </a: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2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etting up a Visual Ranking Project</a:t>
            </a: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200"/>
            </a:b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49280" y="1676160"/>
            <a:ext cx="82375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2: Creating a New Visual Ranking Project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Module 6.13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t up a new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Visual Ranking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project in the Teacher Workspac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ll in the requested information about your projec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ubmit the project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C1F9A-4A3F-4C0A-A91F-8227C4C8652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6: Considering the Visual Ranking Tool for Your Unit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3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etting up a Visual Ranking Project</a:t>
            </a: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375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3: Creating Team IDs with the Project Wizard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odule 6.14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3720" indent="-2422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reate new teams using the Project Wizar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3720" indent="-2422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ecord team IDs and password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37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3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4: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reating Specialized Student Teams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Module 6.15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3720" indent="-2422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o to the Manage Project Teams page for your projec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3720" indent="-2422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dd a new student team with a unique team ID that identifies the team’s perspecti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3720" indent="-2422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ype a unique password for the tea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3720" indent="-2422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ubmit the team inform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37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37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5: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ecording Your Team ID Information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Module 6.15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3720" indent="-2422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ecord your login informa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DCAE9-52DC-45F2-B732-6B4636255B6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6: Considering the Visual Ranking Tool for Your Unit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4 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Trying Out Your Visual Ranking Idea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5760" y="15998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1: Creating a Practice Ranking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– Module 6.16–6.18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ork with another teacher or tea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est your concepts by ranking each other’s lis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actice discussions and questions you would ask your studen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witch and rank the other teacher’s or team’s lis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iscuss your ranking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AB968-B608-4F47-ADFC-6C7C6B3A768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6: Considering the Visual Ranking Tool for Your Unit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4</a:t>
            </a: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2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Trying Out Your Visual Ranking Idea</a:t>
            </a: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200"/>
            </a:b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2: Assessing Your Practice Ranking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– Module 6.19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ork with the other tea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e the Visual Ranking Project Reflection Checklist to guide your discuss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3: Editing Your Project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Module 6.20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pen the project name you want to ed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or edit student team inform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4EAC7-1563-408C-BF90-15C2518AD09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6: Considering the Visual Ranking Tool for Your Unit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4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Trying Out Your Visual Ranking Idea</a:t>
            </a: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200"/>
            </a:b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375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4: Reviewing Student Work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Module 6.20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a comment to a student rank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iew the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Show Report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op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5: Deleting a Project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Module 6.20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elete a project in the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Manage Projects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CFF3B-2DB9-48A2-8668-DAC3D3BB54F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6: Considering the Visual Ranking Tool for Your Unit</a:t>
            </a:r>
            <a:br>
              <a:rPr sz="1200"/>
            </a:br>
            <a:br>
              <a:rPr sz="12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5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Revisiting Your Unit Plan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3752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1: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Understanding Best Classroom Practice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odule 6.21–6.24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5e647"/>
                </a:solidFill>
                <a:latin typeface="Verdana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1001"/>
              </a:spcBef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ew the following items as you plan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orking in team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tting Up and Implementing a Projec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paring Ranking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flecting on Learn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ing Multiple Methods of Assessment throughout the Projec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72256-2C84-4DD4-8C2A-08BE086BC07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Module 6: Considering the Visual Ranking Tool for Your Unit</a:t>
            </a:r>
            <a:br>
              <a:rPr sz="1000"/>
            </a:br>
            <a:br>
              <a:rPr sz="1000"/>
            </a:b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Activity 5</a:t>
            </a:r>
            <a:br>
              <a:rPr sz="22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Trying Out Your Visual Ranking Idea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25600" y="152352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2: Revising Your Unit Plan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– Module 6.25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se the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Visual Ranking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Project Name, Project Description, Project Prompt, and Sorting List, if neede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se the Standards, Learning Objectives, and Curriculum-Framing Questions, if necessar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 the Assessment Plan section, add your ideas for how you would assess the learning throughout the un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se the Assessment Timeline, as neede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raft the Procedur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raft or outline the Unit Summar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7B85A-2BCB-4D0E-8F83-B7F2663FD81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6: Considering the Visual Ranking Tool for Your Unit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6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haring Your Results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– Module 6.26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Discuss your experience with the </a:t>
            </a:r>
            <a:r>
              <a:rPr b="1" i="1" lang="en-US" sz="2000" spc="-1" strike="noStrike">
                <a:solidFill>
                  <a:srgbClr val="ffffff"/>
                </a:solidFill>
                <a:latin typeface="Verdana"/>
              </a:rPr>
              <a:t>Visual Ranking Tool: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d you try out an idea for your main unit or for a different project idea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nsidering your test results, do you think you will keep this tool in your unit plan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do you see the use of the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Visual Ranking Tool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fitting in with the objectives and standards you are trying to target, and your overall plan for your unit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will the use of this tool help students meet those needs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at questions do you still have about this project’s design, implementation, or assessment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c00"/>
                </a:solidFill>
                <a:latin typeface="Verdana"/>
              </a:rPr>
              <a:t>[If using a wiki, enter the URL and directions here]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C2B4A-C385-49B8-8114-B5C32CEEFEE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Where We Were 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375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1: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argeting Thinking in the Classroom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2: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esigning Standards-Based Project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3: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reating Curriculum-Framing Questions to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upport Thinking Skill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4: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lanning Student-Centered Assess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5: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nsidering the Visual Ranking Tool for Your Unit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iscuss best uses of the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Visual Ranking Too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e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Visual Ranking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n actio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Questions?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C7B04-5A96-44FF-8124-7D08BFF6B0A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6: Considering the Visual Ranking Tool for Your Unit</a:t>
            </a:r>
            <a:br>
              <a:rPr sz="1400"/>
            </a:br>
            <a:br>
              <a:rPr sz="12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ule Summary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Module 6.29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55760" y="1371600"/>
          <a:ext cx="8237520" cy="3352320"/>
        </p:xfrm>
        <a:graphic>
          <a:graphicData uri="http://schemas.openxmlformats.org/drawingml/2006/table">
            <a:tbl>
              <a:tblPr/>
              <a:tblGrid>
                <a:gridCol w="8237520"/>
              </a:tblGrid>
              <a:tr h="442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c2e86"/>
                          </a:solidFill>
                          <a:latin typeface="Verdana"/>
                        </a:rPr>
                        <a:t>Module 6 Key Poin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cae1"/>
                    </a:solidFill>
                  </a:tcPr>
                </a:tc>
              </a:tr>
              <a:tr h="29098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73160" indent="-171720">
                        <a:lnSpc>
                          <a:spcPct val="100000"/>
                        </a:lnSpc>
                        <a:spcBef>
                          <a:spcPts val="201"/>
                        </a:spcBef>
                        <a:buClr>
                          <a:srgbClr val="ffffff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173160" indent="-17172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ffffff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he 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Visual Ranking Tool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helps to develop students’ collaboration, cooperation, and persuasion skills, as well as their ability to analyze, evaluate, and prioritize information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173160" indent="-17172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ffffff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he 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Visual Ranking Tool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provides opportunities to extend the learning community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173160" indent="-171720">
                        <a:lnSpc>
                          <a:spcPct val="100000"/>
                        </a:lnSpc>
                        <a:spcBef>
                          <a:spcPts val="1001"/>
                        </a:spcBef>
                        <a:buClr>
                          <a:srgbClr val="ffffff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 team’s verbal and written explanations for a ranking may be useful to determine the depth of their understanding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9D2FB-B322-489F-A607-29CD5E04C0E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Next Session</a:t>
            </a:r>
            <a:br>
              <a:rPr sz="2600"/>
            </a:b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5760" y="1066680"/>
            <a:ext cx="8237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ule 7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Using the Seeing Reason Tool to Target Thinking Skill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scuss a unit that integrates the use of the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Seeing Reason Too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present causal relationships visuall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scuss best uses of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Seeing Reas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iew and discuss ideas for incorporating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Seeing Reason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to your un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evelop and share a project idea that uses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Seeing Reas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t up a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Seeing Reason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ject onlin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6EC35-4ACD-485A-8443-5E8CA3AB4E5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2217600" y="1908000"/>
            <a:ext cx="4953240" cy="247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BDE9A-A3B8-4D3E-9E44-48AB0F159B6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Where We Are 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ule 6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Considering the Visual Ranking Tool for Your Uni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ry out a project idea using the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Visual Ranking Too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reate, share, and reflect on a practice rank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se your Unit Pla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scuss your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Visual Ranking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experienc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26441-76BA-46C6-B209-FB1BC2BAABB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Where We Are Going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80880" y="1371600"/>
          <a:ext cx="8237520" cy="3376440"/>
        </p:xfrm>
        <a:graphic>
          <a:graphicData uri="http://schemas.openxmlformats.org/drawingml/2006/table">
            <a:tbl>
              <a:tblPr/>
              <a:tblGrid>
                <a:gridCol w="1830600"/>
                <a:gridCol w="6406920"/>
              </a:tblGrid>
              <a:tr h="63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dule 7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sing the Seeing Reason Tool to Target Thinking Skill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dule 8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sidering the Seeing Reason Tool for Your Uni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7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dule 9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Using the Showing Evidence Tool to Target Thinking Skill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dule 10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nsidering the Showing Evidence Tool for Your Uni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4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dule 11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ompleting Your Uni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66462-A4D0-4C94-B7C2-242C278F9A7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Module 6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Considering the Visual Ranking Tool for Your Uni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67080" y="1752120"/>
            <a:ext cx="461016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404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odule Objective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ry out project ideas that incorporates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Visual Ranking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to your unit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reate, share, and reflect on a practice ranking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se your Unit Plan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scuss your experience with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Visual Ranking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40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4014720" cy="487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F8DC0-A568-4AD0-BC42-28CDD361781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6: Considering the Visual Ranking Tool for Your Unit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1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Clarifying Project Ideas for Using Visual Ranking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3752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1: Reviewing the Needs of Your Unit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Module 6.02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382680" indent="-381240">
              <a:spcBef>
                <a:spcPts val="1001"/>
              </a:spcBef>
              <a:buClr>
                <a:srgbClr val="ffff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pen your Unit Pla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382680" indent="-381240">
              <a:spcBef>
                <a:spcPts val="1001"/>
              </a:spcBef>
              <a:buClr>
                <a:srgbClr val="ffff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ew your “Habits of Learning Taxonomy”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382680" indent="-381240">
              <a:spcBef>
                <a:spcPts val="1001"/>
              </a:spcBef>
              <a:buClr>
                <a:srgbClr val="ffff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ew the standards you identified as ones that could possibly benefit from the use of the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Visual Ranking Too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382680" indent="-381240">
              <a:spcBef>
                <a:spcPts val="1001"/>
              </a:spcBef>
              <a:buClr>
                <a:srgbClr val="ffff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dentify or consider new objectives that could be supported by the use of the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Visual Ranking Too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457200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Note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If you do not believe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Visual Ranking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would be a good fit for your unit, you will have the opportunity to try out an idea for a different unit during this modu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3AB78-5C9E-4FC8-944E-B15BC674A6E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6: Considering the Visual Ranking Tool for Your Unit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1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Clarifying Project Ideas for Using Visual Ranking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523880"/>
            <a:ext cx="8229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768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2: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Viewing Sample Project Descriptions and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ompts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Module 6.02–6.0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50"/>
              </a:spcAft>
              <a:tabLst>
                <a:tab algn="l" pos="0"/>
                <a:tab algn="l" pos="114768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50"/>
              </a:spcAft>
              <a:buClr>
                <a:srgbClr val="ffffff"/>
              </a:buClr>
              <a:buFont typeface="Verdana"/>
              <a:buChar char="•"/>
              <a:tabLst>
                <a:tab algn="l" pos="114768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iew project idea descri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50"/>
              </a:spcAft>
              <a:buClr>
                <a:srgbClr val="ffffff"/>
              </a:buClr>
              <a:buFont typeface="Verdana"/>
              <a:buChar char="•"/>
              <a:tabLst>
                <a:tab algn="l" pos="114768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nsider tips for creating a promp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399960">
              <a:lnSpc>
                <a:spcPct val="100000"/>
              </a:lnSpc>
              <a:spcAft>
                <a:spcPts val="1125"/>
              </a:spcAft>
              <a:buClr>
                <a:srgbClr val="ffffff"/>
              </a:buClr>
              <a:buFont typeface="Verdana"/>
              <a:buChar char="–"/>
              <a:tabLst>
                <a:tab algn="l" pos="114768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nclude the criteria for sorting, unless the criteria is team-specif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399960">
              <a:lnSpc>
                <a:spcPct val="100000"/>
              </a:lnSpc>
              <a:spcAft>
                <a:spcPts val="1125"/>
              </a:spcAft>
              <a:buClr>
                <a:srgbClr val="ffffff"/>
              </a:buClr>
              <a:buFont typeface="Verdana"/>
              <a:buChar char="–"/>
              <a:tabLst>
                <a:tab algn="l" pos="114768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arify that they are sorting the entire list, not just picking the b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399960">
              <a:lnSpc>
                <a:spcPct val="100000"/>
              </a:lnSpc>
              <a:spcAft>
                <a:spcPts val="1125"/>
              </a:spcAft>
              <a:buClr>
                <a:srgbClr val="ffffff"/>
              </a:buClr>
              <a:buFont typeface="Verdana"/>
              <a:buChar char="–"/>
              <a:tabLst>
                <a:tab algn="l" pos="114768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arify meaning of qualifiers, such as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impact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 significance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 b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B1466-391C-4876-8E14-1BFB0C840D2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6: Considering the Visual Ranking Tool for Your Unit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1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Clarifying Project Ideas for Using Visual Ranking</a:t>
            </a:r>
            <a:br>
              <a:rPr sz="2600"/>
            </a:b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5400" y="1371240"/>
            <a:ext cx="4041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1523880"/>
            <a:ext cx="8534520" cy="24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768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3: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haring Your Ideas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Module 6.0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768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2286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114768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hare your ideas for a project incorporating the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Visual Ranking To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2286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114768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vide feedback on ways to target higher-order thinking ski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2286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114768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228600">
              <a:lnSpc>
                <a:spcPct val="100000"/>
              </a:lnSpc>
              <a:tabLst>
                <a:tab algn="l" pos="0"/>
                <a:tab algn="l" pos="114768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</a:tabLst>
            </a:pPr>
            <a:r>
              <a:rPr b="0" lang="en-US" sz="2000" spc="-1" strike="noStrike">
                <a:solidFill>
                  <a:srgbClr val="ff5c00"/>
                </a:solidFill>
                <a:latin typeface="Verdana"/>
              </a:rPr>
              <a:t>[If using a wiki, enter the URL and directions here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147680"/>
                <a:tab algn="l" pos="1257480"/>
                <a:tab algn="l" pos="1371600"/>
                <a:tab algn="l" pos="1486080"/>
                <a:tab algn="l" pos="1600200"/>
                <a:tab algn="l" pos="1714680"/>
                <a:tab algn="l" pos="1828800"/>
                <a:tab algn="l" pos="1943280"/>
                <a:tab algn="l" pos="2057400"/>
                <a:tab algn="l" pos="2171880"/>
                <a:tab algn="l" pos="2286000"/>
                <a:tab algn="l" pos="2400480"/>
                <a:tab algn="l" pos="2514600"/>
                <a:tab algn="l" pos="2629080"/>
                <a:tab algn="l" pos="2743200"/>
                <a:tab algn="l" pos="2857680"/>
                <a:tab algn="l" pos="2971800"/>
                <a:tab algn="l" pos="3086280"/>
                <a:tab algn="l" pos="3200400"/>
                <a:tab algn="l" pos="3314880"/>
                <a:tab algn="l" pos="3429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C4463-4C89-4AEA-BBB6-FAC5B20AD11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Module 6: Considering the Visual Ranking Tool for Your Unit</a:t>
            </a:r>
            <a:br>
              <a:rPr sz="1200"/>
            </a:br>
            <a:br>
              <a:rPr sz="1000"/>
            </a:b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ctivity 2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Verdana"/>
                <a:ea typeface="Times New Roman"/>
              </a:rPr>
              <a:t>Planning Your Projec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5760" y="15998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 1: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reating Your Own Project Description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             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nd Prompt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– Module 6.08–6.09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ew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Your Curriculum-Framing Questions in your Unit Pla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Your Project Priorities on pages 2.16–2.18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oject Reflection Checklist on page 5.19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raft your project description and prompt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1001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Note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If the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Visual Ranking Tool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use is not appropriate for your unit, use the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Visual Ranking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ject Idea document available in the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Thinking Tools, Visual Ranking Tool Resources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lder on the Curriculum Resource CD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A4247-0985-4A7C-BEB1-571E4DD2718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4T01:49:56Z</dcterms:created>
  <dc:creator>Judi Yost</dc:creator>
  <dc:description/>
  <dc:language>en-US</dc:language>
  <cp:lastModifiedBy>mjmillhX</cp:lastModifiedBy>
  <dcterms:modified xsi:type="dcterms:W3CDTF">2008-03-31T23:48:07Z</dcterms:modified>
  <cp:revision>884</cp:revision>
  <dc:subject/>
  <dc:title>Slide 1</dc:title>
</cp:coreProperties>
</file>